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BBC-A4D1-4B28-A766-29BFB481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9D4-A434-444C-94BE-E99AE769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5BA-BB07-444F-BFB6-C0ABF8A8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CF5-984D-4428-B7D1-21626F5B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857-5245-4E68-9C86-D2F3F07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1B0-EF86-4934-A44E-43DC5F1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C89-DDE9-43F5-92B6-9D5A00E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1C8-24B2-491E-89B5-524C7A5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DB5-E782-4622-AA40-D07D2F2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D3B-285A-4F95-85A4-807DD123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24E-88FC-436C-9E6D-27296A6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206-BFCE-44B0-9A2F-1C3E10C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1E7-6DC4-4484-9289-4209E66E6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6094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08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Back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96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5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000" y="4470480"/>
            <a:ext cx="1771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Name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62200" y="1219320"/>
            <a:ext cx="4003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904760" y="1219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048120"/>
            <a:ext cx="97128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219280" y="3048120"/>
            <a:ext cx="34308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571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3048120"/>
            <a:ext cx="2286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3048120"/>
            <a:ext cx="5713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733400" y="3048120"/>
            <a:ext cx="40032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048120"/>
            <a:ext cx="34272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3048120"/>
            <a:ext cx="68580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5120" y="52833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RelationName=Print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205740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: cn=Locks, o=cs.uk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Directo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44840" y="6858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4840" y="16002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4440" y="274320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274320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16440" y="2743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M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78760" y="2743200"/>
            <a:ext cx="1828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440" y="5029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5520" y="502920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0244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064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06560" y="1981080"/>
            <a:ext cx="3124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63600" y="19810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54320" y="198108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54320" y="198108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640" y="3124080"/>
            <a:ext cx="22096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31240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1320" y="3124080"/>
            <a:ext cx="24386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3124080"/>
            <a:ext cx="4876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97600" y="16876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cn=Relations, 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35240"/>
            <a:ext cx="24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RelationName=use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=Relations, o=cs.uky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320040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_from_prog=fa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_alias_file=/usr/local/etc/sat/lib/user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_alias_file=/usr/local/etc/sat/lib/distalias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18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nt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6416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ly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02440" y="5029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HostName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.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6480" y="5791320"/>
            <a:ext cx="305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: FullHostName=al.cs.uky.ed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Name=Hosts, cn=Relation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=cs.uky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9560" y="5562720"/>
            <a:ext cx="21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Name=l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hostname=l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=128.163.146.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type=lin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ver=2.2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3960" y="1522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 of SAT data in L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1:06:06Z</dcterms:created>
  <dc:creator>hhshah</dc:creator>
  <dc:description/>
  <dc:language>en-US</dc:language>
  <cp:lastModifiedBy>hhshah</cp:lastModifiedBy>
  <dcterms:modified xsi:type="dcterms:W3CDTF">2000-06-28T11:33:37Z</dcterms:modified>
  <cp:revision>4</cp:revision>
  <dc:subject/>
  <dc:title>No Slide Title</dc:title>
</cp:coreProperties>
</file>